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unti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soft.wav" ContentType="audio/x-wav"/>
  <Override PartName="/ppt/media/image6.jpeg" ContentType="image/jpeg"/>
  <Override PartName="/ppt/media/applause.wav" ContentType="audio/x-wav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wallewa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86C-E47A-4220-A45F-94665F22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B22-983A-4C4B-B648-895971A0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127-0617-41D7-8429-C54593C2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12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668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A70-661F-41DA-9E77-44A3731C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0276-6CE3-477C-AAB2-DE80E77F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3A05-EFB4-430A-A241-9B0EB849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3DC5-1305-4FBE-934D-E8A2116D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21E4-BA28-4E51-8EA5-DDC501F9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CCBD-9588-4762-9291-1ABE61B9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168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AE95-BFF7-44C2-99BF-CDBAE0FD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B270-D14E-4AAF-B0B4-7D8F422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34D-F59F-41FF-AC0A-0CF9C342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D78C-5B8F-4A99-AAE7-945B7F9F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A2BC-4D17-402D-BBA8-594950D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6064-269B-41B0-B6DF-763AC54A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1E50-8601-45DA-8E20-89ACD4F3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712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668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3D68-C512-4719-BCE7-584B88B3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328-3103-47D1-BAB1-454B74F2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00E-2134-4354-B68F-E9A1F8D6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89C-4457-4317-928E-13562BF4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168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0E4-1191-49CF-8838-FE4CC89C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5AD-5182-4098-AC21-0F77DF8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AC6-6286-41DC-BADF-AB3368B0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EDD-EE93-438D-A1EE-3F3468D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CF116-8954-419A-A780-3D583868803B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3A2FD-F221-48B5-9B97-70C7655ED1D4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unti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sof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allewal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2120" y="373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257800"/>
            <a:ext cx="6400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87480" y="685800"/>
            <a:ext cx="7181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286000"/>
            <a:ext cx="4745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6" name="unti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07800"/>
            <a:ext cx="8229600" cy="13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5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 because of the air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57200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85800" y="4572000"/>
            <a:ext cx="3429000" cy="1809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057400" y="-228600"/>
            <a:ext cx="4857840" cy="9428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7" name="soft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3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7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d to democracy which was a hard transition because many things were new to the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4" name="wallewa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15T15:48:32Z</dcterms:modified>
  <cp:revision>12</cp:revision>
  <dc:subject/>
  <dc:title>Present Day Russia</dc:title>
</cp:coreProperties>
</file>